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jpeg" ContentType="image/jpeg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8417-A68F-4174-899C-DA658392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1D4C-C666-439A-9FEF-5C1F2E78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A0F5-E7DE-4EB2-9158-A9AB4A4C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1268-45A2-4F61-A757-07EC0C38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819E-F507-4FC1-ADC3-08196087F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43FB-1894-4FBF-850B-EA5E2C54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85A8-FF82-4B6F-A250-BA7729A9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6608-5E5D-4FA6-9A2D-15B2E689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76C6-AEA1-49CF-8591-8FB29E04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1209-D5A5-4551-A184-80486569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F8F6-5B8E-4878-B733-6102162F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5F06-AA8B-41CE-AE59-68597EB2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6E14-E297-45E3-95E6-C76E924F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30CD-FF45-4190-A1DE-47861D43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400E-9A66-4499-B572-BB3CF3AD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3427-9711-4EE5-94AD-104F790B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6C7B-1B23-4C26-99EB-5E0BC2223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1EA8-7831-4C04-89C8-70B0E30F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9833-935E-4038-A60B-9652AD69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D891-03D6-4B5D-AFD4-E6DF09A5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BEAB-81F6-4035-AC70-78A84ECB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3FF3-1CB5-4DBA-899A-E8B9D996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C981-3DAD-4B18-88F3-5528282F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7644-0708-49EA-A2F9-9EA9C21B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36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36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1D45-85EA-4690-AA76-6330528D4671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B3CC-F7A1-4F7D-BC32-4E4B6A0CB2D8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367"/>
              </a:buClr>
              <a:buFont typeface="Tahoma"/>
              <a:buChar char="◊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367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367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367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67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367"/>
              </a:buClr>
              <a:buFont typeface="Tahoma"/>
              <a:buChar char="◊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67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67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67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eded"/>
                </a:solidFill>
                <a:latin typeface="Arial"/>
              </a:rPr>
              <a:t>Sandra Cisneros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505320" y="3048120"/>
            <a:ext cx="16524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eded"/>
                </a:solidFill>
                <a:latin typeface="Arial"/>
              </a:rPr>
              <a:t>Childhood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f2c21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f2c21"/>
                </a:solidFill>
                <a:latin typeface="Arial"/>
              </a:rPr>
              <a:t>Born 1954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f2c21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f2c21"/>
                </a:solidFill>
                <a:latin typeface="Arial"/>
              </a:rPr>
              <a:t>Chicago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f2c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2c21"/>
                </a:solidFill>
                <a:latin typeface="Arial"/>
              </a:rPr>
              <a:t>3rd of 7 kids, only girl (Biography)</a:t>
            </a:r>
            <a:endParaRPr b="0" lang="en-US" sz="24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f2c21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f2c21"/>
                </a:solidFill>
                <a:latin typeface="Arial"/>
              </a:rPr>
              <a:t>Was very shy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f2c21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f2c21"/>
                </a:solidFill>
                <a:latin typeface="Arial"/>
              </a:rPr>
              <a:t>Family moved often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441972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eded"/>
                </a:solidFill>
                <a:latin typeface="Arial"/>
              </a:rPr>
              <a:t>Schooling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bcd9d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cd9d"/>
                </a:solidFill>
                <a:latin typeface="Arial"/>
              </a:rPr>
              <a:t>Mexican Parents believed in value of education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9b2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b2"/>
                </a:solidFill>
                <a:latin typeface="Arial"/>
              </a:rPr>
              <a:t>"My father's hands are thick and yellow," Cisneros wrote in Glamour  magazine, "stubbed by a history of hammer and nails and twine and coils and springs. 'Use this' my father said, tapping his head,'not this' showing us those hands.”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9b2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b2"/>
                </a:solidFill>
                <a:latin typeface="Arial"/>
              </a:rPr>
              <a:t>All siblings had library cards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9b2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b2"/>
                </a:solidFill>
                <a:latin typeface="Arial"/>
              </a:rPr>
              <a:t>Got bad grades because of shyness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9b2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b2"/>
                </a:solidFill>
                <a:latin typeface="Arial"/>
              </a:rPr>
              <a:t>Encouraged to share writing in 10th grade (Gale)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086600" y="4572000"/>
            <a:ext cx="185724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Higher Education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19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2c21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2c21"/>
                </a:solidFill>
                <a:latin typeface="Arial"/>
              </a:rPr>
              <a:t>Graduated from Loyola University in Chicago</a:t>
            </a:r>
            <a:endParaRPr b="0" lang="en-US" sz="24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2c21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2c21"/>
                </a:solidFill>
                <a:latin typeface="Arial"/>
              </a:rPr>
              <a:t>Father wanted her to find a husband</a:t>
            </a:r>
            <a:endParaRPr b="0" lang="en-US" sz="24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af2c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2c21"/>
                </a:solidFill>
                <a:latin typeface="Arial"/>
              </a:rPr>
              <a:t>She found love of writing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2c21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2c21"/>
                </a:solidFill>
                <a:latin typeface="Arial"/>
              </a:rPr>
              <a:t>Attended Iowa’s</a:t>
            </a:r>
            <a:r>
              <a:rPr b="0" lang="en-US" sz="2400" spc="-1" strike="noStrike">
                <a:solidFill>
                  <a:srgbClr val="af2c2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af2c21"/>
                </a:solidFill>
                <a:latin typeface="Arial"/>
              </a:rPr>
              <a:t>Writers Workshop (Gale)</a:t>
            </a:r>
            <a:endParaRPr b="0" lang="en-US" sz="24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af2c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2c21"/>
                </a:solidFill>
                <a:latin typeface="Arial"/>
              </a:rPr>
              <a:t>VERY Prestigious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105520" y="1981080"/>
            <a:ext cx="3098520" cy="41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Works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cd9d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cd9d"/>
                </a:solidFill>
                <a:uFillTx/>
                <a:latin typeface="Arial"/>
              </a:rPr>
              <a:t>The House on Mango Street</a:t>
            </a:r>
            <a:r>
              <a:rPr b="0" lang="en-US" sz="3200" spc="-1" strike="noStrike">
                <a:solidFill>
                  <a:srgbClr val="ebcd9d"/>
                </a:solidFill>
                <a:latin typeface="Arial"/>
              </a:rPr>
              <a:t> - 1984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bcd9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cd9d"/>
                </a:solidFill>
                <a:latin typeface="Arial"/>
              </a:rPr>
              <a:t>Her break out success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bcd9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cd9d"/>
                </a:solidFill>
                <a:latin typeface="Arial"/>
              </a:rPr>
              <a:t>About Esperanza, a girl modeled after Cisneros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bcd9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cd9d"/>
                </a:solidFill>
                <a:latin typeface="Arial"/>
              </a:rPr>
              <a:t>Uses Cisneros</a:t>
            </a:r>
            <a:r>
              <a:rPr b="0" lang="en-US" sz="2800" spc="-1" strike="noStrike">
                <a:solidFill>
                  <a:srgbClr val="ebcd9d"/>
                </a:solidFill>
                <a:latin typeface="Lucida Grande"/>
              </a:rPr>
              <a:t>’s</a:t>
            </a:r>
            <a:r>
              <a:rPr b="0" lang="en-US" sz="2800" spc="-1" strike="noStrike">
                <a:solidFill>
                  <a:srgbClr val="ebcd9d"/>
                </a:solidFill>
                <a:latin typeface="Arial"/>
              </a:rPr>
              <a:t> Mexican American Heritage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cd9d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cd9d"/>
                </a:solidFill>
                <a:uFillTx/>
                <a:latin typeface="Arial"/>
              </a:rPr>
              <a:t>My Wicked, Wicked Ways</a:t>
            </a:r>
            <a:r>
              <a:rPr b="0" lang="en-US" sz="3200" spc="-1" strike="noStrike">
                <a:solidFill>
                  <a:srgbClr val="ebcd9d"/>
                </a:solidFill>
                <a:latin typeface="Arial"/>
              </a:rPr>
              <a:t> (Gale)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bcd9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cd9d"/>
                </a:solidFill>
                <a:latin typeface="Arial"/>
              </a:rPr>
              <a:t>Poetry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315200" y="4267080"/>
            <a:ext cx="130644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More Works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cd9d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cd9d"/>
                </a:solidFill>
                <a:uFillTx/>
                <a:latin typeface="Arial"/>
              </a:rPr>
              <a:t>Woman Hollering Creek and Other Storie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bcd9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cd9d"/>
                </a:solidFill>
                <a:latin typeface="Arial"/>
              </a:rPr>
              <a:t>Short stories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cd9d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cd9d"/>
                </a:solidFill>
                <a:uFillTx/>
                <a:latin typeface="Arial"/>
              </a:rPr>
              <a:t>Carmelo</a:t>
            </a:r>
            <a:r>
              <a:rPr b="0" lang="en-US" sz="3200" spc="-1" strike="noStrike">
                <a:solidFill>
                  <a:srgbClr val="ebcd9d"/>
                </a:solidFill>
                <a:latin typeface="Arial"/>
              </a:rPr>
              <a:t> 2002 (Cisneros 112)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bcd9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cd9d"/>
                </a:solidFill>
                <a:latin typeface="Arial"/>
              </a:rPr>
              <a:t>First novel since </a:t>
            </a:r>
            <a:r>
              <a:rPr b="0" lang="en-US" sz="2800" spc="-1" strike="noStrike" u="sng">
                <a:solidFill>
                  <a:srgbClr val="ebcd9d"/>
                </a:solidFill>
                <a:uFillTx/>
                <a:latin typeface="Arial"/>
              </a:rPr>
              <a:t>The House on Mango Street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391520" y="4648320"/>
            <a:ext cx="102852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Awards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cd9d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d"/>
                </a:solidFill>
                <a:latin typeface="Arial"/>
              </a:rPr>
              <a:t>MacArthur Fellowship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cd9d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d"/>
                </a:solidFill>
                <a:latin typeface="Arial"/>
              </a:rPr>
              <a:t>First Chicana to sign major publishing contrac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bcd9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cd9d"/>
                </a:solidFill>
                <a:latin typeface="Arial"/>
              </a:rPr>
              <a:t>Random House (Gale)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715000" y="3276720"/>
            <a:ext cx="21178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Fun Info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cd9d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d"/>
                </a:solidFill>
                <a:latin typeface="Arial"/>
              </a:rPr>
              <a:t>Cisneros painted her house blue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cd9d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d"/>
                </a:solidFill>
                <a:latin typeface="Arial"/>
              </a:rPr>
              <a:t>Texas Historical Society objected  &amp; filed lawsui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cd9d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d"/>
                </a:solidFill>
                <a:latin typeface="Arial"/>
              </a:rPr>
              <a:t>Eventually the house faded to lavender (Gale)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429000" y="4267080"/>
            <a:ext cx="312408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Family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cd9d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d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ebcd9d"/>
                </a:solidFill>
                <a:latin typeface="Arial"/>
              </a:rPr>
              <a:t>Sh</a:t>
            </a:r>
            <a:r>
              <a:rPr b="0" lang="en-US" sz="3200" spc="-1" strike="noStrike">
                <a:solidFill>
                  <a:srgbClr val="ebcd9d"/>
                </a:solidFill>
                <a:latin typeface="Arial"/>
              </a:rPr>
              <a:t>e is nobody</a:t>
            </a:r>
            <a:r>
              <a:rPr b="0" lang="en-US" sz="3200" spc="-1" strike="noStrike">
                <a:solidFill>
                  <a:srgbClr val="ebcd9d"/>
                </a:solidFill>
                <a:latin typeface="Arial"/>
              </a:rPr>
              <a:t>’s </a:t>
            </a:r>
            <a:r>
              <a:rPr b="0" lang="en-US" sz="3200" spc="-1" strike="noStrike">
                <a:solidFill>
                  <a:srgbClr val="ebcd9d"/>
                </a:solidFill>
                <a:latin typeface="Arial"/>
              </a:rPr>
              <a:t>mother and nobody</a:t>
            </a:r>
            <a:r>
              <a:rPr b="0" lang="en-US" sz="3200" spc="-1" strike="noStrike">
                <a:solidFill>
                  <a:srgbClr val="ebcd9d"/>
                </a:solidFill>
                <a:latin typeface="Arial"/>
              </a:rPr>
              <a:t>’s </a:t>
            </a:r>
            <a:r>
              <a:rPr b="0" lang="en-US" sz="3200" spc="-1" strike="noStrike">
                <a:solidFill>
                  <a:srgbClr val="ebcd9d"/>
                </a:solidFill>
                <a:latin typeface="Arial"/>
              </a:rPr>
              <a:t>wife.</a:t>
            </a:r>
            <a:r>
              <a:rPr b="0" lang="en-US" sz="3200" spc="-1" strike="noStrike">
                <a:solidFill>
                  <a:srgbClr val="ebcd9d"/>
                </a:solidFill>
                <a:latin typeface="Lucida Grande"/>
              </a:rPr>
              <a:t>”</a:t>
            </a:r>
            <a:r>
              <a:rPr b="0" lang="en-US" sz="3200" spc="-1" strike="noStrike">
                <a:solidFill>
                  <a:srgbClr val="ebcd9d"/>
                </a:solidFill>
                <a:latin typeface="Arial"/>
              </a:rPr>
              <a:t>  (Cisneros 111)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2:02:03Z</dcterms:created>
  <dc:creator>Ed Center RLASD</dc:creator>
  <dc:description/>
  <dc:language>en-US</dc:language>
  <cp:lastModifiedBy>Ed Center RLASD</cp:lastModifiedBy>
  <dcterms:modified xsi:type="dcterms:W3CDTF">2008-09-11T12:14:14Z</dcterms:modified>
  <cp:revision>1</cp:revision>
  <dc:subject/>
  <dc:title>Sandra Cisneros</dc:title>
</cp:coreProperties>
</file>